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17BB-7996-4227-822E-C3C1B49CC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C763-4839-4345-98BC-398BF24C67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A5D-1EC3-4B02-B47A-695B9DC1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07E-43FF-4B44-AD2D-B4551E4A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D6A-B0D9-4133-A249-7BB1500A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EBA-4020-489E-9754-5471788A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AF54B-F578-4FB2-AA32-DD27882C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4088F-A8DC-4A46-8F92-EE7BD96A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F49F0-72EA-4345-A0D6-0E90199E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059F-7BAF-40EB-A5EE-7B4B7421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CDD2A-E9B5-4E18-8E1E-9158B43E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009AC-58E5-4AD9-A2C8-EEBD7432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EBA3F-0E36-45A1-A10B-CDF8D1B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5C9-DCD1-4127-A9E5-329E1445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2D5DD-F189-4069-90B1-D043F82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D2AC9-10A9-47F1-A684-DE4227BA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9870F-81BD-44A6-A14B-552C8C5A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13AE6-EF99-4C23-BCD8-431A12BB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02CC2-B978-4F5D-8961-F340F882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45E-7019-4CB9-8CCB-54E12AF0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FF8-AA97-4635-8FD2-3BEFFAF1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D87-DFF4-4EF8-A459-C7B20C85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A4B-D59F-4253-8B71-C46D4BCE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5CA-0B8B-4C19-9A23-BEFB8B2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35E-D7AE-43D1-B3CD-707705DD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1D5-2474-48D8-986A-F31C2DEE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7415-D85E-4572-9830-EE98FA8C5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4DA9-58FF-465D-9F53-3E2C1620D8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МЕДИЦИНСКИ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ФАКУЛТЕТ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КРАГУЈЕВАЦ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5280" y="3357360"/>
            <a:ext cx="813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ahoma"/>
              </a:rPr>
              <a:t>Рехабилитациј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ahoma"/>
              </a:rPr>
              <a:t>болесник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b Bechterew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8458200" cy="6375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ГЛОБУ К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ИФЕРНИМ ЗГЛОБОВ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УДНОМ КОШ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ЛУЋНОМ ПАРЕНХИ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АСТРОИНТЕНСТИНАЛНОМ ТРАК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ГЕНИТАЛНОМ ТРАК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ЧИМА- ИР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МЕНЕ У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P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РВНОМ СИСТ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  MB BECHTER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зацерба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ли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мис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лик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тива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20-25%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и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ноза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chter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и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к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д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ар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алите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ионал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ање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во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пособно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hter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S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аматорног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ченост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стич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ијаш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ћ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т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5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бер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не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зопатиј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к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чног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итис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доциклит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ск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сута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F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рза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иноге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були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ф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т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були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буми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RP ,  HL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27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труктив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ч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т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ографск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hter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071360"/>
            <a:ext cx="4968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очавај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им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оз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нос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артикулар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лер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а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ма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иј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RI 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предовало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„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мбусов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ап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цедент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штав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о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гаменат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дилоф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цинтиграф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еле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slika 2 str10"/>
          <p:cNvPicPr/>
          <p:nvPr/>
        </p:nvPicPr>
        <p:blipFill>
          <a:blip r:embed="rId1"/>
          <a:stretch/>
        </p:blipFill>
        <p:spPr>
          <a:xfrm>
            <a:off x="5364000" y="1484280"/>
            <a:ext cx="3586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ОТЕРАПЕУТСК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hter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54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мбал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chober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Dürrigl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5 10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,5+1,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кал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т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с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иратор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1-30 3+2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д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гулу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tuberantio occ ext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4+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м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им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емите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м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T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винск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тичк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на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oto i shober"/>
          <p:cNvPicPr/>
          <p:nvPr/>
        </p:nvPicPr>
        <p:blipFill>
          <a:blip r:embed="rId1"/>
          <a:stretch/>
        </p:blipFill>
        <p:spPr>
          <a:xfrm>
            <a:off x="5651640" y="1989000"/>
            <a:ext cx="30193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 Bechter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е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ал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ша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овертебрал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олош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номен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м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п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еди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менат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инацијс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линацијс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507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и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иј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сред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ев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рат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зарцербаци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ал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еч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лаж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ува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ж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ува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сималн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о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6407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1.МЕДИКАМЕНТНА ТЕРАПИЈ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400"/>
            </a:b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НСАИЛ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(диклофен, индоцид, флугалин, бруфен, роксикам, мовалис и сл.)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базична терапија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(сулфасалазин)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кортикостероид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2. МИРОВАЊ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10-12 сати у току 24 часа, забрањен принудни положа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3. ЕДУКАЦИЈ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век усправно стајати, ходати и сед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од седења седиште треба да је тврдо, столица са високим наслоном за кичмени сту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Лежање без јастука, а лежај треба да је тврд;потрбуш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збегавати савијање напред и подизање терета у савијеном положај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ежбати сваки д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терапијск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дур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фи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раче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лои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тразв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терапи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Г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серотерапиј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рапи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тотисањ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рет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дер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агал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т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ahoma"/>
              </a:rPr>
              <a:t>Спондилоартропатиј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b Bechter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b Rei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sorijazni 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aktivni art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uvenilne spondiloartropat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diferenci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ndiloartropat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569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ператив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зод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доциклитис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о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ч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вертебрал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кулат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љиво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ме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к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жб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ифи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овертебрал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кал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ск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воље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з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бољ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ор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ов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АЦИ:                            МЕТОД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990360"/>
            <a:ext cx="36576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5e0e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ЧУВАЊЕ ОБИМА ПОК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ЕЋАЊЕ ОБИМА ПОК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АЧАЊЕ МИШИЋНЕ СНАГ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РЕКЦИЈЕ ИЗМЕЊЕНЕ СТА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67080" y="990360"/>
            <a:ext cx="36576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АКТИВАН ПОКРЕТ</a:t>
            </a:r>
            <a:r>
              <a:rPr b="1" lang="sr-CS" sz="24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АК.ПОКРЕТ СА ОТП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PNF </a:t>
            </a: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РЕЛАКСАЦИОНЕ ТЕХН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101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ЈАЧАЊЕ МИШИЋНЕ СНАГЕ ПО МЕТОД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DE LORME-WATKIN</a:t>
            </a:r>
            <a:r>
              <a:rPr b="1" lang="sr-Latn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-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096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РСТЕ</a:t>
            </a:r>
            <a:r>
              <a:rPr b="0" lang="sr-Latn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И</a:t>
            </a:r>
            <a:r>
              <a:rPr b="0" lang="sr-Latn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М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24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42560" y="914040"/>
            <a:ext cx="84675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ДИСА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ЗА ЈАЧАЊЕ ЕКСТЕНЗОРА ТРУПА И УД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ЗА МОБИЛИЗАЦИЈУ КИЧМЕНОГ СТУ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ЗА ИСТЕЗАЊЕ СКРАЋЕНИХ МИШИЋ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ЗА ЈАЧАЊЕ ТРБУШНЕ МУСКУЛАТУ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ШТЕ КОНДИЦИОНЕ ВЕЖБ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Sladja diplomski\Sladja diplomski\sladja slike\img048.jpg"/>
          <p:cNvPicPr/>
          <p:nvPr/>
        </p:nvPicPr>
        <p:blipFill>
          <a:blip r:embed="rId1"/>
          <a:stretch/>
        </p:blipFill>
        <p:spPr>
          <a:xfrm>
            <a:off x="228600" y="152280"/>
            <a:ext cx="2643120" cy="138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Sladja diplomski\Sladja diplomski\sladja slike\img049.jpg"/>
          <p:cNvPicPr/>
          <p:nvPr/>
        </p:nvPicPr>
        <p:blipFill>
          <a:blip r:embed="rId2"/>
          <a:stretch/>
        </p:blipFill>
        <p:spPr>
          <a:xfrm>
            <a:off x="3048120" y="152280"/>
            <a:ext cx="276372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Sladja diplomski\Sladja diplomski\sladja slike\img050.jpg"/>
          <p:cNvPicPr/>
          <p:nvPr/>
        </p:nvPicPr>
        <p:blipFill>
          <a:blip r:embed="rId3"/>
          <a:stretch/>
        </p:blipFill>
        <p:spPr>
          <a:xfrm>
            <a:off x="5943600" y="152280"/>
            <a:ext cx="276372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Sladja diplomski\Sladja diplomski\sladja slike\img051.jpg"/>
          <p:cNvPicPr/>
          <p:nvPr/>
        </p:nvPicPr>
        <p:blipFill>
          <a:blip r:embed="rId4"/>
          <a:stretch/>
        </p:blipFill>
        <p:spPr>
          <a:xfrm>
            <a:off x="228600" y="2143080"/>
            <a:ext cx="3316320" cy="128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Sladja diplomski\Sladja diplomski\sladja slike\img052.jpg"/>
          <p:cNvPicPr/>
          <p:nvPr/>
        </p:nvPicPr>
        <p:blipFill>
          <a:blip r:embed="rId5"/>
          <a:stretch/>
        </p:blipFill>
        <p:spPr>
          <a:xfrm>
            <a:off x="3962520" y="1357200"/>
            <a:ext cx="1752480" cy="19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Sladja diplomski\Sladja diplomski\sladja slike\img053.jpg"/>
          <p:cNvPicPr/>
          <p:nvPr/>
        </p:nvPicPr>
        <p:blipFill>
          <a:blip r:embed="rId6"/>
          <a:stretch/>
        </p:blipFill>
        <p:spPr>
          <a:xfrm>
            <a:off x="6248520" y="1500120"/>
            <a:ext cx="1895400" cy="285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Sladja diplomski\Sladja diplomski\sladja slike\img054.jpg"/>
          <p:cNvPicPr/>
          <p:nvPr/>
        </p:nvPicPr>
        <p:blipFill>
          <a:blip r:embed="rId7"/>
          <a:stretch/>
        </p:blipFill>
        <p:spPr>
          <a:xfrm>
            <a:off x="1447920" y="3581280"/>
            <a:ext cx="4330440" cy="32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6172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ТЕЗАЊЕ СКРАЋЕНИХ МИШ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6000" y="837720"/>
            <a:ext cx="6477120" cy="5537160"/>
          </a:xfrm>
          <a:prstGeom prst="rect">
            <a:avLst/>
          </a:prstGeom>
          <a:solidFill>
            <a:srgbClr val="ceeee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2" descr="C:\Sladja diplomski\Sladja diplomski\sladja slike\img055.jpg"/>
          <p:cNvPicPr/>
          <p:nvPr/>
        </p:nvPicPr>
        <p:blipFill>
          <a:blip r:embed="rId1"/>
          <a:stretch/>
        </p:blipFill>
        <p:spPr>
          <a:xfrm>
            <a:off x="2362320" y="914400"/>
            <a:ext cx="3852720" cy="187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Sladja diplomski\Sladja diplomski\sladja slike\img056.jpg"/>
          <p:cNvPicPr/>
          <p:nvPr/>
        </p:nvPicPr>
        <p:blipFill>
          <a:blip r:embed="rId2"/>
          <a:stretch/>
        </p:blipFill>
        <p:spPr>
          <a:xfrm>
            <a:off x="3214800" y="2857680"/>
            <a:ext cx="4357440" cy="1652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Sladja diplomski\Sladja diplomski\sladja slike\img057.jpg"/>
          <p:cNvPicPr/>
          <p:nvPr/>
        </p:nvPicPr>
        <p:blipFill>
          <a:blip r:embed="rId3"/>
          <a:stretch/>
        </p:blipFill>
        <p:spPr>
          <a:xfrm>
            <a:off x="4786200" y="4572000"/>
            <a:ext cx="367200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 ЈАЧАЊА</a:t>
            </a:r>
            <a:r>
              <a:rPr b="0" lang="sr-Latn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ИСТЕЗАЊА ЕКСТЕНЗОРА ТРУПА И</a:t>
            </a:r>
            <a:r>
              <a:rPr b="0" lang="sr-Latn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ДОВ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43000" y="990720"/>
            <a:ext cx="7315200" cy="5867280"/>
          </a:xfrm>
          <a:prstGeom prst="rect">
            <a:avLst/>
          </a:prstGeom>
          <a:solidFill>
            <a:srgbClr val="ceeee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Sladja diplomski\Sladja diplomski\sladja slike\img038.jpg"/>
          <p:cNvPicPr/>
          <p:nvPr/>
        </p:nvPicPr>
        <p:blipFill>
          <a:blip r:embed="rId1"/>
          <a:stretch/>
        </p:blipFill>
        <p:spPr>
          <a:xfrm>
            <a:off x="2362320" y="1066680"/>
            <a:ext cx="2971800" cy="7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Sladja diplomski\Sladja diplomski\sladja slike\img039.jpg"/>
          <p:cNvPicPr/>
          <p:nvPr/>
        </p:nvPicPr>
        <p:blipFill>
          <a:blip r:embed="rId2"/>
          <a:stretch/>
        </p:blipFill>
        <p:spPr>
          <a:xfrm>
            <a:off x="5410080" y="1066680"/>
            <a:ext cx="281016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Sladja diplomski\Sladja diplomski\sladja slike\img040.jpg"/>
          <p:cNvPicPr/>
          <p:nvPr/>
        </p:nvPicPr>
        <p:blipFill>
          <a:blip r:embed="rId3"/>
          <a:stretch/>
        </p:blipFill>
        <p:spPr>
          <a:xfrm>
            <a:off x="2362320" y="1981080"/>
            <a:ext cx="29718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Sladja diplomski\Sladja diplomski\sladja slike\img042.jpg"/>
          <p:cNvPicPr/>
          <p:nvPr/>
        </p:nvPicPr>
        <p:blipFill>
          <a:blip r:embed="rId4"/>
          <a:stretch/>
        </p:blipFill>
        <p:spPr>
          <a:xfrm>
            <a:off x="2362320" y="2895480"/>
            <a:ext cx="2990880" cy="85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:\Sladja diplomski\Sladja diplomski\sladja slike\img041.jpg"/>
          <p:cNvPicPr/>
          <p:nvPr/>
        </p:nvPicPr>
        <p:blipFill>
          <a:blip r:embed="rId5"/>
          <a:stretch/>
        </p:blipFill>
        <p:spPr>
          <a:xfrm>
            <a:off x="5410080" y="1981080"/>
            <a:ext cx="2810160" cy="79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Sladja diplomski\Sladja diplomski\sladja slike\img043.jpg"/>
          <p:cNvPicPr/>
          <p:nvPr/>
        </p:nvPicPr>
        <p:blipFill>
          <a:blip r:embed="rId6"/>
          <a:stretch/>
        </p:blipFill>
        <p:spPr>
          <a:xfrm>
            <a:off x="5410080" y="2895480"/>
            <a:ext cx="2826000" cy="838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Sladja diplomski\Sladja diplomski\sladja slike\img044.jpg"/>
          <p:cNvPicPr/>
          <p:nvPr/>
        </p:nvPicPr>
        <p:blipFill>
          <a:blip r:embed="rId7"/>
          <a:stretch/>
        </p:blipFill>
        <p:spPr>
          <a:xfrm>
            <a:off x="2362320" y="3809880"/>
            <a:ext cx="29718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:\Sladja diplomski\Sladja diplomski\sladja slike\img045.jpg"/>
          <p:cNvPicPr/>
          <p:nvPr/>
        </p:nvPicPr>
        <p:blipFill>
          <a:blip r:embed="rId8"/>
          <a:stretch/>
        </p:blipFill>
        <p:spPr>
          <a:xfrm>
            <a:off x="5410080" y="3809880"/>
            <a:ext cx="2819520" cy="854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Sladja diplomski\Sladja diplomski\sladja slike\img046.jpg"/>
          <p:cNvPicPr/>
          <p:nvPr/>
        </p:nvPicPr>
        <p:blipFill>
          <a:blip r:embed="rId9"/>
          <a:stretch/>
        </p:blipFill>
        <p:spPr>
          <a:xfrm>
            <a:off x="2362320" y="4724280"/>
            <a:ext cx="29718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C:\Sladja diplomski\Sladja diplomski\sladja slike\img047.jpg"/>
          <p:cNvPicPr/>
          <p:nvPr/>
        </p:nvPicPr>
        <p:blipFill>
          <a:blip r:embed="rId10"/>
          <a:stretch/>
        </p:blipFill>
        <p:spPr>
          <a:xfrm>
            <a:off x="5410080" y="4724280"/>
            <a:ext cx="2819520" cy="138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172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ЖБЕ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ИСАЊ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85880" y="714240"/>
            <a:ext cx="7743600" cy="6143760"/>
          </a:xfrm>
          <a:prstGeom prst="rect">
            <a:avLst/>
          </a:prstGeom>
          <a:solidFill>
            <a:srgbClr val="ceeeee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" descr="C:\Sladja diplomski\Sladja diplomski\sladja slike\img026.jpg"/>
          <p:cNvPicPr/>
          <p:nvPr/>
        </p:nvPicPr>
        <p:blipFill>
          <a:blip r:embed="rId1"/>
          <a:stretch/>
        </p:blipFill>
        <p:spPr>
          <a:xfrm>
            <a:off x="2438280" y="1143000"/>
            <a:ext cx="2514600" cy="792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Sladja diplomski\Sladja diplomski\sladja slike\img027.jpg"/>
          <p:cNvPicPr/>
          <p:nvPr/>
        </p:nvPicPr>
        <p:blipFill>
          <a:blip r:embed="rId2"/>
          <a:stretch/>
        </p:blipFill>
        <p:spPr>
          <a:xfrm>
            <a:off x="5791320" y="1143000"/>
            <a:ext cx="2514600" cy="79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Sladja diplomski\Sladja diplomski\sladja slike\img028.jpg"/>
          <p:cNvPicPr/>
          <p:nvPr/>
        </p:nvPicPr>
        <p:blipFill>
          <a:blip r:embed="rId3"/>
          <a:stretch/>
        </p:blipFill>
        <p:spPr>
          <a:xfrm>
            <a:off x="2438280" y="2133720"/>
            <a:ext cx="2514600" cy="79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Sladja diplomski\Sladja diplomski\sladja slike\img029.jpg"/>
          <p:cNvPicPr/>
          <p:nvPr/>
        </p:nvPicPr>
        <p:blipFill>
          <a:blip r:embed="rId4"/>
          <a:stretch/>
        </p:blipFill>
        <p:spPr>
          <a:xfrm>
            <a:off x="5791320" y="2133720"/>
            <a:ext cx="2541600" cy="79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:\Sladja diplomski\Sladja diplomski\sladja slike\img030.jpg"/>
          <p:cNvPicPr/>
          <p:nvPr/>
        </p:nvPicPr>
        <p:blipFill>
          <a:blip r:embed="rId5"/>
          <a:stretch/>
        </p:blipFill>
        <p:spPr>
          <a:xfrm>
            <a:off x="5791320" y="3124080"/>
            <a:ext cx="2541600" cy="99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:\Sladja diplomski\Sladja diplomski\sladja slike\img031.jpg"/>
          <p:cNvPicPr/>
          <p:nvPr/>
        </p:nvPicPr>
        <p:blipFill>
          <a:blip r:embed="rId6"/>
          <a:stretch/>
        </p:blipFill>
        <p:spPr>
          <a:xfrm>
            <a:off x="2438280" y="3124080"/>
            <a:ext cx="2541600" cy="1076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Sladja diplomski\Sladja diplomski\sladja slike\img032.jpg"/>
          <p:cNvPicPr/>
          <p:nvPr/>
        </p:nvPicPr>
        <p:blipFill>
          <a:blip r:embed="rId7"/>
          <a:stretch/>
        </p:blipFill>
        <p:spPr>
          <a:xfrm>
            <a:off x="2438280" y="4343400"/>
            <a:ext cx="2746440" cy="1868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Sladja diplomski\Sladja diplomski\sladja slike\img033.jpg"/>
          <p:cNvPicPr/>
          <p:nvPr/>
        </p:nvPicPr>
        <p:blipFill>
          <a:blip r:embed="rId8"/>
          <a:stretch/>
        </p:blipFill>
        <p:spPr>
          <a:xfrm>
            <a:off x="6781680" y="4343400"/>
            <a:ext cx="1503360" cy="186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ЛОГ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e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5186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ивањ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еквата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ск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е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ава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сивног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лажава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ећ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у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мск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јал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стве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равн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а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ја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исти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рет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дер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сев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кциј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ф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Rei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т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тходној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оартр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зопат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њуктив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кута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церац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лан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пецифич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метр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ал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RF -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етр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с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прокул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остра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оријазног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орија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оартр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зопатиј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њуктив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пец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ал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-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роли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них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*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овк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љ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MB BECHTEREW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(Ankilozirajući spondilit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н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едијент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умат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знато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10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шћ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арац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ад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негативн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уматск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а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зна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е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оз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шта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килоз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I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гамена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о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б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ертебралних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овертебралн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нокосталн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а између запаљењског и дегенеративног бола у зглоб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њски бол се појачава са мировањ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ске анализе су повећане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,CR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дегенеративног је супро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чк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ијум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дилоартропат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њск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5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еп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ак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ољш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ор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тар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ченост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4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д</a:t>
            </a: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веденог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в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ј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ећ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етричн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тежн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едн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чк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ијуми</a:t>
            </a:r>
            <a:r>
              <a:rPr b="0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дилоартропатиј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ч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chter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оријаз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итис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ев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I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н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ор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њск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е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теално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ел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ј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дашњ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зопат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ре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њ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etritis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rvicitis ,,      ,,      ,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oill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5920" y="228600"/>
            <a:ext cx="6929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ЕТИОЛОГИЈА</a:t>
            </a:r>
            <a:r>
              <a:rPr b="0" lang="en-U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МБ</a:t>
            </a:r>
            <a:r>
              <a:rPr b="0" lang="en-U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BECHTERE</a:t>
            </a:r>
            <a:r>
              <a:rPr b="0" lang="en-US" sz="3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Subtitle 2"/>
          <p:cNvGrpSpPr/>
          <p:nvPr/>
        </p:nvGrpSpPr>
        <p:grpSpPr>
          <a:xfrm>
            <a:off x="-60480" y="646200"/>
            <a:ext cx="8217000" cy="5675400"/>
            <a:chOff x="-60480" y="646200"/>
            <a:chExt cx="8217000" cy="5675400"/>
          </a:xfrm>
        </p:grpSpPr>
        <p:pic>
          <p:nvPicPr>
            <p:cNvPr id="104" name="Subtitle 2" descr=""/>
            <p:cNvPicPr/>
            <p:nvPr/>
          </p:nvPicPr>
          <p:blipFill>
            <a:blip r:embed="rId1"/>
            <a:stretch/>
          </p:blipFill>
          <p:spPr>
            <a:xfrm>
              <a:off x="-60480" y="646200"/>
              <a:ext cx="8217000" cy="56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0" y="785880"/>
              <a:ext cx="8101080" cy="54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Узрок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болест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је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епознат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>
                <a:lnSpc>
                  <a:spcPct val="100000"/>
                </a:lnSpc>
                <a:spcBef>
                  <a:spcPts val="9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Метаболичк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,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ендокрин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,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алергијск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ремећаји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 algn="just">
                <a:lnSpc>
                  <a:spcPct val="100000"/>
                </a:lnSpc>
                <a:spcBef>
                  <a:spcPts val="9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еуровегетативни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рем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 algn="just">
                <a:lnSpc>
                  <a:spcPct val="100000"/>
                </a:lnSpc>
                <a:spcBef>
                  <a:spcPts val="9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Генетика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(HL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А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B27)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 algn="just">
                <a:lnSpc>
                  <a:spcPct val="100000"/>
                </a:lnSpc>
                <a:spcBef>
                  <a:spcPts val="9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Бакт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e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ијске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0" lang="sr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инфекције</a:t>
              </a:r>
              <a:r>
                <a:rPr b="0" lang="sr-Latn-CS" sz="3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UGS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 lvl="4" marL="2057400" indent="-228600"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SzPct val="80000"/>
                <a:buFont typeface="Wingdings" charset="2"/>
                <a:buChar char="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вити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ебрални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ни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се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од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трукциј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скавиц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н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љенск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оосални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јевим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ертебрал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кус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им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ден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ификациј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а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вних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мбал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и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кал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н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BECHTER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356840"/>
            <a:ext cx="60357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стим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тарњ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ченост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гоартритис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њих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у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ој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ив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-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ив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олумбалн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г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пој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ив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шијадичној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и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идоциклит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патор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ост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аничена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о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F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nel-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bechterew 2"/>
          <p:cNvPicPr/>
          <p:nvPr/>
        </p:nvPicPr>
        <p:blipFill>
          <a:blip r:embed="rId1"/>
          <a:stretch/>
        </p:blipFill>
        <p:spPr>
          <a:xfrm>
            <a:off x="6372360" y="1341360"/>
            <a:ext cx="242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1:30:09Z</dcterms:created>
  <dc:creator>Manic</dc:creator>
  <dc:description/>
  <dc:language>en-US</dc:language>
  <cp:lastModifiedBy>Info</cp:lastModifiedBy>
  <dcterms:modified xsi:type="dcterms:W3CDTF">2014-04-23T12:03:44Z</dcterms:modified>
  <cp:revision>39</cp:revision>
  <dc:subject/>
  <dc:title>MEDICINSKI FAKULTET KRAGUJEVAC Smer: Diplomirani viši medicinski tehničar Usmerenje: Fizioterapeut   DIPLOMSKI RAD</dc:title>
</cp:coreProperties>
</file>